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BB010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F4C-30E2-4AC5-9DFA-A71BC3D8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42B-D8D4-4793-80F8-E2CAA1E8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AC3-5498-4416-9D1C-46ADF130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375-065F-4611-B199-94CAA833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5E7B-09C7-4E70-BF5C-0872ED79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ED9C-52A1-41FB-8D68-FB9298F9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DE4F-B1D7-412A-86C2-8B8F2EBD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F399-9ED2-4A39-B269-6038D01A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535E-9FBA-4424-920F-4CF468AD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B5DB-8074-4AD0-A8AC-CB1DD127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AF13-92D1-4B73-AA1C-3F8BC312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830-DB8B-44F7-BEBB-F603800E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19D1-D65C-4D14-BA1E-7A041A47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9515-9C98-412E-90AD-2C7ECACD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84C0-22FB-4162-B7C2-81F64CCA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77D9-0C54-4D81-9E7F-23ACAC5E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7432-BAE7-43C2-8B51-DBB9376D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FF9-1FA2-4457-A475-1B1555A9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3201-697C-4D1E-AE22-DD843ED9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B9D-F812-4576-AC85-CAF66C1E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9BE-EE67-40FB-96AA-B04E95FD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AF6-B36A-489D-B632-7A813DA0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E0D-5987-44BC-AEDB-BA1DE0D4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594-9114-4F0F-9763-3834A963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1d4e7f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1d4e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1d4e7f"/>
                </a:gs>
                <a:gs pos="50000">
                  <a:srgbClr val="6d9eff"/>
                </a:gs>
                <a:gs pos="100000">
                  <a:srgbClr val="1d4e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d9e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4165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7B48-D5C0-445B-B06C-30D6A8E6BC8D}" type="slidenum">
              <a:rPr b="0" lang="en-US" sz="1400" spc="-1" strike="noStrike">
                <a:solidFill>
                  <a:srgbClr val="00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1d4e7f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1d4e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334165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1d4e7f"/>
                </a:gs>
                <a:gs pos="50000">
                  <a:srgbClr val="6d9eff"/>
                </a:gs>
                <a:gs pos="100000">
                  <a:srgbClr val="1d4e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1d4e7f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C104-DC2E-4579-AF59-536B4A02F3AF}" type="slidenum">
              <a:rPr b="0" lang="en-US" sz="1400" spc="-1" strike="noStrike">
                <a:solidFill>
                  <a:srgbClr val="00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d9e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4165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B010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BB010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BB010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BB010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BB010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BB010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BB010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audio" Target="../media/BB010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BB010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745164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92360" y="0"/>
            <a:ext cx="7451640" cy="6858000"/>
          </a:xfrm>
          <a:prstGeom prst="rect">
            <a:avLst/>
          </a:prstGeom>
          <a:solidFill>
            <a:srgbClr val="6d9e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7640" y="1773360"/>
            <a:ext cx="331164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9600" spc="-1" strike="noStrike">
                <a:solidFill>
                  <a:srgbClr val="1d4e7f"/>
                </a:solidFill>
                <a:latin typeface="Angsana New"/>
                <a:cs typeface="KodchiangUPC"/>
              </a:rPr>
              <a:t>บทที่ </a:t>
            </a:r>
            <a:r>
              <a:rPr b="1" i="1" lang="en-US" sz="9600" spc="-1" strike="noStrike">
                <a:solidFill>
                  <a:srgbClr val="1d4e7f"/>
                </a:solidFill>
                <a:latin typeface="Angsana New"/>
                <a:ea typeface="KodchiangUPC"/>
              </a:rPr>
              <a:t>7</a:t>
            </a:r>
            <a:endParaRPr b="0" lang="en-US" sz="9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763280" y="3573000"/>
            <a:ext cx="7148520" cy="1816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d4e7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5000" spc="-1" strike="noStrike">
                <a:solidFill>
                  <a:srgbClr val="66ffff"/>
                </a:solidFill>
                <a:latin typeface="Arial"/>
                <a:cs typeface="LilyUPC"/>
              </a:rPr>
              <a:t>ตัวต้านทานและตัวเก็บประจุต่อร่วมกัน</a:t>
            </a:r>
            <a:endParaRPr b="0" lang="en-US" sz="5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 spd="slow" advTm="30000">
    <p:comb dir="horz"/>
    <p:sndAc>
      <p:stSnd>
        <p:snd r:embed="rId2" name="BB01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332000" y="0"/>
            <a:ext cx="7812000" cy="6858000"/>
          </a:xfrm>
          <a:prstGeom prst="rect">
            <a:avLst/>
          </a:prstGeom>
          <a:solidFill>
            <a:srgbClr val="6d9e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051920"/>
            <a:ext cx="6945480" cy="825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1d4e7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66ffff"/>
                </a:solidFill>
                <a:latin typeface="Angsana New"/>
                <a:cs typeface="LilyUPC"/>
              </a:rPr>
              <a:t>วงจรอนุกรม</a:t>
            </a:r>
            <a:r>
              <a:rPr b="1" i="1" lang="en-US" sz="4800" spc="-1" strike="noStrike">
                <a:solidFill>
                  <a:srgbClr val="66ffff"/>
                </a:solidFill>
                <a:latin typeface="Angsana New"/>
                <a:ea typeface="LilyUPC"/>
              </a:rPr>
              <a:t> </a:t>
            </a:r>
            <a:r>
              <a:rPr b="1" i="1" lang="en-US" sz="4800" spc="-1" strike="noStrike">
                <a:solidFill>
                  <a:srgbClr val="66ffff"/>
                </a:solidFill>
                <a:latin typeface="Angsana New"/>
                <a:ea typeface="LilyUPC"/>
              </a:rPr>
              <a:t>CR</a:t>
            </a:r>
            <a:endParaRPr b="0" lang="en-US" sz="4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68360" y="5734080"/>
            <a:ext cx="540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676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010000"/>
                </a:solidFill>
                <a:latin typeface="Angsana New"/>
                <a:cs typeface="LilyUPC"/>
              </a:rPr>
              <a:t>รูปวงจรต่ออนุกรมของ </a:t>
            </a:r>
            <a:r>
              <a:rPr b="1" i="1" lang="en-US" sz="2800" spc="-1" strike="noStrike">
                <a:solidFill>
                  <a:srgbClr val="010000"/>
                </a:solidFill>
                <a:latin typeface="Angsana New"/>
                <a:ea typeface="LilyUPC"/>
              </a:rPr>
              <a:t>RC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0"/>
            <a:ext cx="5526000" cy="703800"/>
          </a:xfrm>
          <a:prstGeom prst="rect">
            <a:avLst/>
          </a:prstGeom>
          <a:gradFill rotWithShape="0">
            <a:gsLst>
              <a:gs pos="0">
                <a:srgbClr val="324875"/>
              </a:gs>
              <a:gs pos="50000">
                <a:srgbClr val="6d9eff"/>
              </a:gs>
              <a:gs pos="100000">
                <a:srgbClr val="3248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10000"/>
                </a:solidFill>
                <a:latin typeface="Angsana New"/>
              </a:rPr>
              <a:t>ตัวต้านทานและตัวเก็บประจุต่อร่วมกัน</a:t>
            </a:r>
            <a:r>
              <a:rPr b="1" lang="en-US" sz="2000" spc="-1" strike="noStrike">
                <a:solidFill>
                  <a:srgbClr val="01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10000"/>
                </a:solidFill>
                <a:latin typeface="Angsana New"/>
              </a:rPr>
              <a:t>วงจรอนุกรม </a:t>
            </a:r>
            <a:r>
              <a:rPr b="1" lang="en-US" sz="2000" spc="-1" strike="noStrike">
                <a:solidFill>
                  <a:srgbClr val="010000"/>
                </a:solidFill>
                <a:latin typeface="Angsana New"/>
              </a:rPr>
              <a:t>CR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6d9eff"/>
              </a:gs>
              <a:gs pos="100000">
                <a:srgbClr val="3248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1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ngsana New"/>
              </a:rPr>
              <a:t>115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6d9eff"/>
              </a:gs>
              <a:gs pos="100000">
                <a:srgbClr val="3248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1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10000"/>
                </a:solidFill>
                <a:latin typeface="Angsana New"/>
              </a:rPr>
              <a:t>7</a:t>
            </a:r>
            <a:r>
              <a:rPr b="1" lang="en-US" sz="1400" spc="-1" strike="noStrike">
                <a:solidFill>
                  <a:srgbClr val="01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10000"/>
                </a:solidFill>
                <a:latin typeface="Angsana New"/>
              </a:rPr>
              <a:t>2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778760" y="51577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วงจร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63440" y="50846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สัญญาณ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38400" y="5084640"/>
            <a:ext cx="31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ค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เฟสเซอร์ไดอะแกร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116000" y="2349360"/>
            <a:ext cx="7777080" cy="259236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sp>
        <p:nvSpPr>
          <p:cNvPr id="157" name=""/>
          <p:cNvSpPr/>
          <p:nvPr/>
        </p:nvSpPr>
        <p:spPr>
          <a:xfrm flipH="1" flipV="1" rot="5400000">
            <a:off x="1953360" y="2878200"/>
            <a:ext cx="336600" cy="71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59" y="632"/>
                </a:moveTo>
                <a:arcTo wR="10800" hR="10800" stAng="-6581982" swAng="8001156"/>
                <a:lnTo>
                  <a:pt x="10800" y="10800"/>
                </a:lnTo>
                <a:close/>
              </a:path>
              <a:path fill="none" w="21600" h="21600">
                <a:moveTo>
                  <a:pt x="7159" y="632"/>
                </a:moveTo>
                <a:arcTo wR="10800" hR="10800" stAng="-6581982" swAng="8001156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26400" y="27082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c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 spd="slow" advTm="30000">
    <p:comb dir="horz"/>
    <p:sndAc>
      <p:stSnd>
        <p:snd r:embed="rId4" name="BB010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332000" y="0"/>
            <a:ext cx="7812000" cy="6858000"/>
          </a:xfrm>
          <a:prstGeom prst="rect">
            <a:avLst/>
          </a:prstGeom>
          <a:solidFill>
            <a:srgbClr val="6d9e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6d9eff"/>
              </a:gs>
              <a:gs pos="100000">
                <a:srgbClr val="3248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16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6d9eff"/>
              </a:gs>
              <a:gs pos="100000">
                <a:srgbClr val="3248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780000" y="1628640"/>
                <a:ext cx="25923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780000" y="3068640"/>
                <a:ext cx="2592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θ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332000" y="0"/>
            <a:ext cx="5526000" cy="703800"/>
          </a:xfrm>
          <a:prstGeom prst="rect">
            <a:avLst/>
          </a:prstGeom>
          <a:gradFill rotWithShape="0">
            <a:gsLst>
              <a:gs pos="0">
                <a:srgbClr val="324875"/>
              </a:gs>
              <a:gs pos="50000">
                <a:srgbClr val="6d9eff"/>
              </a:gs>
              <a:gs pos="100000">
                <a:srgbClr val="3248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10000"/>
                </a:solidFill>
                <a:latin typeface="Angsana New"/>
              </a:rPr>
              <a:t>ตัวต้านทานและตัวเก็บประจุต่อร่วมกัน</a:t>
            </a:r>
            <a:r>
              <a:rPr b="1" lang="en-US" sz="2000" spc="-1" strike="noStrike">
                <a:solidFill>
                  <a:srgbClr val="01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10000"/>
                </a:solidFill>
                <a:latin typeface="Angsana New"/>
              </a:rPr>
              <a:t>วงจรอนุกรม </a:t>
            </a:r>
            <a:r>
              <a:rPr b="1" lang="en-US" sz="2000" spc="-1" strike="noStrike">
                <a:solidFill>
                  <a:srgbClr val="010000"/>
                </a:solidFill>
                <a:latin typeface="Angsana New"/>
              </a:rPr>
              <a:t>CR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 spd="slow" advTm="30000">
    <p:comb dir="horz"/>
    <p:sndAc>
      <p:stSnd>
        <p:snd r:embed="rId3" name="BB010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32000" y="0"/>
            <a:ext cx="7812000" cy="6858000"/>
          </a:xfrm>
          <a:prstGeom prst="rect">
            <a:avLst/>
          </a:prstGeom>
          <a:solidFill>
            <a:srgbClr val="6d9e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6d9eff"/>
              </a:gs>
              <a:gs pos="100000">
                <a:srgbClr val="3248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17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6d9eff"/>
              </a:gs>
              <a:gs pos="100000">
                <a:srgbClr val="3248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50560" y="470160"/>
            <a:ext cx="6550200" cy="155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1d4e7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66ffff"/>
                </a:solidFill>
                <a:latin typeface="Angsana New"/>
                <a:cs typeface="LilyUPC"/>
              </a:rPr>
              <a:t>อิมพีแดนซ์ของวงจรอนุกรม </a:t>
            </a:r>
            <a:r>
              <a:rPr b="1" i="1" lang="en-US" sz="4800" spc="-1" strike="noStrike">
                <a:solidFill>
                  <a:srgbClr val="66ffff"/>
                </a:solidFill>
                <a:latin typeface="Angsana New"/>
                <a:ea typeface="LilyUPC"/>
              </a:rPr>
              <a:t>RC</a:t>
            </a:r>
            <a:endParaRPr b="0" lang="en-US" sz="4800" spc="-1" strike="noStrike">
              <a:solidFill>
                <a:srgbClr val="4d4d4d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780000" y="1557360"/>
                <a:ext cx="24714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780000" y="2637000"/>
                <a:ext cx="24476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995640" y="4221000"/>
            <a:ext cx="201636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221000"/>
            <a:ext cx="0" cy="17290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95640" y="4221000"/>
            <a:ext cx="2016360" cy="17290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7600" y="41497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ngsana New"/>
              </a:rPr>
              <a:t>ө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10760" y="386064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ngsana New"/>
              </a:rPr>
              <a:t>R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60120" y="5084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ngsana New"/>
              </a:rPr>
              <a:t>Z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34040" y="4653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ngsana New"/>
              </a:rPr>
              <a:t>X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86320" y="47973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ngsana New"/>
              </a:rPr>
              <a:t>C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79280" y="6093000"/>
            <a:ext cx="662292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ูปสามเหลี่ยมมุมฉากในรูปอิมพีแดนซ์ของ 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R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และ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C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0"/>
            <a:ext cx="5526000" cy="703800"/>
          </a:xfrm>
          <a:prstGeom prst="rect">
            <a:avLst/>
          </a:prstGeom>
          <a:gradFill rotWithShape="0">
            <a:gsLst>
              <a:gs pos="0">
                <a:srgbClr val="324875"/>
              </a:gs>
              <a:gs pos="50000">
                <a:srgbClr val="6d9eff"/>
              </a:gs>
              <a:gs pos="100000">
                <a:srgbClr val="3248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10000"/>
                </a:solidFill>
                <a:latin typeface="Angsana New"/>
              </a:rPr>
              <a:t>ตัวต้านทานและตัวเก็บประจุต่อร่วมกัน</a:t>
            </a:r>
            <a:r>
              <a:rPr b="1" lang="en-US" sz="2000" spc="-1" strike="noStrike">
                <a:solidFill>
                  <a:srgbClr val="01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10000"/>
                </a:solidFill>
                <a:latin typeface="Angsana New"/>
              </a:rPr>
              <a:t>อิมพีแดนซ์ของวงจรอนุกรม </a:t>
            </a:r>
            <a:r>
              <a:rPr b="1" lang="en-US" sz="2000" spc="-1" strike="noStrike">
                <a:solidFill>
                  <a:srgbClr val="010000"/>
                </a:solidFill>
                <a:latin typeface="Angsana New"/>
              </a:rPr>
              <a:t>RC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00720" y="4221000"/>
            <a:ext cx="215640" cy="432000"/>
          </a:xfrm>
          <a:custGeom>
            <a:avLst/>
            <a:gdLst>
              <a:gd name="textAreaLeft" fmla="*/ 0 w 215640"/>
              <a:gd name="textAreaRight" fmla="*/ 151200 w 215640"/>
              <a:gd name="textAreaTop" fmla="*/ 96120 h 432000"/>
              <a:gd name="textAreaBottom" fmla="*/ 3358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805"/>
                  <a:pt x="21600" y="9609"/>
                </a:cubicBezTo>
                <a:lnTo>
                  <a:pt x="21600" y="11991"/>
                </a:lnTo>
                <a:cubicBezTo>
                  <a:pt x="21600" y="16796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 spd="slow" advTm="30000">
    <p:comb dir="horz"/>
    <p:sndAc>
      <p:stSnd>
        <p:snd r:embed="rId3" name="BB010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332000" y="0"/>
            <a:ext cx="7812000" cy="6858000"/>
          </a:xfrm>
          <a:prstGeom prst="rect">
            <a:avLst/>
          </a:prstGeom>
          <a:solidFill>
            <a:srgbClr val="6d9e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195640" y="5157360"/>
            <a:ext cx="62640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66760"/>
                <a:tab algn="l" pos="80172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010000"/>
                </a:solidFill>
                <a:latin typeface="Angsana New"/>
                <a:cs typeface="LilyUPC"/>
              </a:rPr>
              <a:t>รูปกำลังไฟฟ้าในวงจรไฟฟ้ากระแสสลับใน </a:t>
            </a:r>
            <a:r>
              <a:rPr b="1" i="1" lang="en-US" sz="3200" spc="-1" strike="noStrike">
                <a:solidFill>
                  <a:srgbClr val="010000"/>
                </a:solidFill>
                <a:latin typeface="Angsana New"/>
                <a:ea typeface="LilyUPC"/>
              </a:rPr>
              <a:t>3 </a:t>
            </a:r>
            <a:r>
              <a:rPr b="1" i="1" lang="en-US" sz="3200" spc="-1" strike="noStrike">
                <a:solidFill>
                  <a:srgbClr val="010000"/>
                </a:solidFill>
                <a:latin typeface="Angsana New"/>
                <a:ea typeface="LilyUPC"/>
              </a:rPr>
              <a:t>	</a:t>
            </a:r>
            <a:r>
              <a:rPr b="1" i="1" lang="hi-IN" sz="3200" spc="-1" strike="noStrike">
                <a:solidFill>
                  <a:srgbClr val="010000"/>
                </a:solidFill>
                <a:latin typeface="Angsana New"/>
                <a:cs typeface="LilyUPC"/>
              </a:rPr>
              <a:t>ลักษณะ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6d9eff"/>
              </a:gs>
              <a:gs pos="100000">
                <a:srgbClr val="3248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20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6d9eff"/>
              </a:gs>
              <a:gs pos="100000">
                <a:srgbClr val="3248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5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79280" y="541440"/>
            <a:ext cx="5977080" cy="155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1d4e7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66ffff"/>
                </a:solidFill>
                <a:latin typeface="Angsana New"/>
                <a:cs typeface="LilyUPC"/>
              </a:rPr>
              <a:t>กำลังไฟฟ้าของวงจรอนุกรม </a:t>
            </a:r>
            <a:r>
              <a:rPr b="1" i="1" lang="en-US" sz="4800" spc="-1" strike="noStrike">
                <a:solidFill>
                  <a:srgbClr val="66ffff"/>
                </a:solidFill>
                <a:latin typeface="Angsana New"/>
                <a:ea typeface="LilyUPC"/>
              </a:rPr>
              <a:t>RC</a:t>
            </a:r>
            <a:endParaRPr b="0" lang="en-US" sz="4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3708360" y="2637000"/>
            <a:ext cx="324000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48360" y="2637000"/>
            <a:ext cx="0" cy="20160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08360" y="2637000"/>
            <a:ext cx="3240000" cy="1944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53240" y="2565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ngsana New"/>
              </a:rPr>
              <a:t>ө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643280" y="2060640"/>
                <a:ext cx="1679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กำลังไฟฟ้าจริง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093080" y="3068640"/>
                <a:ext cx="1363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กำลังไฟฟ้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ตอบสนอง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564000" y="3716280"/>
                <a:ext cx="1963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กำลังไฟฟ้าปรากฏ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1332000" y="0"/>
            <a:ext cx="5526000" cy="703800"/>
          </a:xfrm>
          <a:prstGeom prst="rect">
            <a:avLst/>
          </a:prstGeom>
          <a:gradFill rotWithShape="0">
            <a:gsLst>
              <a:gs pos="0">
                <a:srgbClr val="324875"/>
              </a:gs>
              <a:gs pos="50000">
                <a:srgbClr val="6d9eff"/>
              </a:gs>
              <a:gs pos="100000">
                <a:srgbClr val="3248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10000"/>
                </a:solidFill>
                <a:latin typeface="Angsana New"/>
              </a:rPr>
              <a:t>ตัวต้านทานและตัวเก็บประจุต่อร่วมกัน</a:t>
            </a:r>
            <a:r>
              <a:rPr b="1" lang="en-US" sz="2000" spc="-1" strike="noStrike">
                <a:solidFill>
                  <a:srgbClr val="01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10000"/>
                </a:solidFill>
                <a:latin typeface="Angsana New"/>
              </a:rPr>
              <a:t>กำลังไฟฟ้าของวงจรอนุกรม </a:t>
            </a:r>
            <a:r>
              <a:rPr b="1" lang="en-US" sz="2000" spc="-1" strike="noStrike">
                <a:solidFill>
                  <a:srgbClr val="010000"/>
                </a:solidFill>
                <a:latin typeface="Angsana New"/>
              </a:rPr>
              <a:t>RC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27640" y="2637000"/>
            <a:ext cx="215640" cy="431640"/>
          </a:xfrm>
          <a:custGeom>
            <a:avLst/>
            <a:gdLst>
              <a:gd name="textAreaLeft" fmla="*/ 0 w 215640"/>
              <a:gd name="textAreaRight" fmla="*/ 151200 w 215640"/>
              <a:gd name="textAreaTop" fmla="*/ 95760 h 431640"/>
              <a:gd name="textAreaBottom" fmla="*/ 3358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805"/>
                  <a:pt x="21600" y="9609"/>
                </a:cubicBezTo>
                <a:lnTo>
                  <a:pt x="21600" y="11991"/>
                </a:lnTo>
                <a:cubicBezTo>
                  <a:pt x="21600" y="16796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 spd="slow" advTm="30000">
    <p:comb dir="horz"/>
    <p:sndAc>
      <p:stSnd>
        <p:snd r:embed="rId3" name="BB010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332000" y="0"/>
            <a:ext cx="7812000" cy="6858000"/>
          </a:xfrm>
          <a:prstGeom prst="rect">
            <a:avLst/>
          </a:prstGeom>
          <a:solidFill>
            <a:srgbClr val="6d9e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124000" y="5300280"/>
            <a:ext cx="6740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65040"/>
                <a:tab algn="l" pos="76212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10000"/>
                </a:solidFill>
                <a:latin typeface="Arial"/>
                <a:ea typeface="LilyUPC"/>
              </a:rPr>
              <a:t>	</a:t>
            </a:r>
            <a:r>
              <a:rPr b="1" i="1" lang="th-TH" sz="3200" spc="-1" strike="noStrike">
                <a:solidFill>
                  <a:srgbClr val="010000"/>
                </a:solidFill>
                <a:latin typeface="Arial"/>
                <a:ea typeface="LilyUPC"/>
              </a:rPr>
              <a:t>	</a:t>
            </a:r>
            <a:r>
              <a:rPr b="1" i="1" lang="th-TH" sz="3200" spc="-1" strike="noStrike">
                <a:solidFill>
                  <a:srgbClr val="010000"/>
                </a:solidFill>
                <a:latin typeface="Arial"/>
                <a:cs typeface="LilyUPC"/>
              </a:rPr>
              <a:t>รูปเฟสเซอร์ไดอะแกรมของกำลังไฟฟ้าทั้ง </a:t>
            </a:r>
            <a:r>
              <a:rPr b="1" i="1" lang="th-TH" sz="3200" spc="-1" strike="noStrike">
                <a:solidFill>
                  <a:srgbClr val="010000"/>
                </a:solidFill>
                <a:latin typeface="Arial"/>
                <a:ea typeface="LilyUPC"/>
              </a:rPr>
              <a:t>3 </a:t>
            </a:r>
            <a:r>
              <a:rPr b="1" i="1" lang="th-TH" sz="3200" spc="-1" strike="noStrike">
                <a:solidFill>
                  <a:srgbClr val="010000"/>
                </a:solidFill>
                <a:latin typeface="Arial"/>
                <a:cs typeface="LilyUPC"/>
              </a:rPr>
              <a:t>ค่า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6d9eff"/>
              </a:gs>
              <a:gs pos="100000">
                <a:srgbClr val="3248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21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6d9eff"/>
              </a:gs>
              <a:gs pos="100000">
                <a:srgbClr val="3248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7/6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348000" y="2421000"/>
            <a:ext cx="35290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2421000"/>
            <a:ext cx="3600360" cy="16556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2421000"/>
            <a:ext cx="2952720" cy="1368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2421000"/>
            <a:ext cx="28810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00720" y="2421000"/>
            <a:ext cx="0" cy="1368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65600" y="2349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ngsana New"/>
              </a:rPr>
              <a:t>ө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9000" y="22050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ngsana New"/>
              </a:rPr>
              <a:t>E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44120" y="3933720"/>
            <a:ext cx="25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ngsana New"/>
              </a:rPr>
              <a:t>l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200480" y="1916280"/>
                <a:ext cx="21114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I cosθ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409920" y="3357720"/>
                <a:ext cx="1533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I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61200" y="2997360"/>
                <a:ext cx="20350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I sinθ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1332000" y="0"/>
            <a:ext cx="5526000" cy="703800"/>
          </a:xfrm>
          <a:prstGeom prst="rect">
            <a:avLst/>
          </a:prstGeom>
          <a:gradFill rotWithShape="0">
            <a:gsLst>
              <a:gs pos="0">
                <a:srgbClr val="324875"/>
              </a:gs>
              <a:gs pos="50000">
                <a:srgbClr val="6d9eff"/>
              </a:gs>
              <a:gs pos="100000">
                <a:srgbClr val="3248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10000"/>
                </a:solidFill>
                <a:latin typeface="Angsana New"/>
              </a:rPr>
              <a:t>ตัวต้านทานและตัวเก็บประจุต่อร่วมกัน</a:t>
            </a:r>
            <a:r>
              <a:rPr b="1" lang="en-US" sz="2000" spc="-1" strike="noStrike">
                <a:solidFill>
                  <a:srgbClr val="01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10000"/>
                </a:solidFill>
                <a:latin typeface="Angsana New"/>
              </a:rPr>
              <a:t>กำลังไฟฟ้าของวงจรอนุกรม </a:t>
            </a:r>
            <a:r>
              <a:rPr b="1" lang="en-US" sz="2000" spc="-1" strike="noStrike">
                <a:solidFill>
                  <a:srgbClr val="010000"/>
                </a:solidFill>
                <a:latin typeface="Angsana New"/>
              </a:rPr>
              <a:t>RC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2421000"/>
            <a:ext cx="216000" cy="431640"/>
          </a:xfrm>
          <a:custGeom>
            <a:avLst/>
            <a:gdLst>
              <a:gd name="textAreaLeft" fmla="*/ 0 w 216000"/>
              <a:gd name="textAreaRight" fmla="*/ 151560 w 216000"/>
              <a:gd name="textAreaTop" fmla="*/ 95760 h 431640"/>
              <a:gd name="textAreaBottom" fmla="*/ 3358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805"/>
                  <a:pt x="21600" y="9609"/>
                </a:cubicBezTo>
                <a:lnTo>
                  <a:pt x="21600" y="11991"/>
                </a:lnTo>
                <a:cubicBezTo>
                  <a:pt x="21600" y="16796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 spd="slow" advTm="30000">
    <p:comb dir="horz"/>
    <p:sndAc>
      <p:stSnd>
        <p:snd r:embed="rId3" name="BB010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332000" y="0"/>
            <a:ext cx="7812000" cy="6858000"/>
          </a:xfrm>
          <a:prstGeom prst="rect">
            <a:avLst/>
          </a:prstGeom>
          <a:solidFill>
            <a:srgbClr val="6d9e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6d9eff"/>
              </a:gs>
              <a:gs pos="100000">
                <a:srgbClr val="3248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21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6d9eff"/>
              </a:gs>
              <a:gs pos="100000">
                <a:srgbClr val="3248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7/7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708360" y="1628640"/>
                <a:ext cx="29606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I cos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780000" y="2637000"/>
                <a:ext cx="19587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780000" y="3645000"/>
                <a:ext cx="237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1332000" y="0"/>
            <a:ext cx="5526000" cy="703800"/>
          </a:xfrm>
          <a:prstGeom prst="rect">
            <a:avLst/>
          </a:prstGeom>
          <a:gradFill rotWithShape="0">
            <a:gsLst>
              <a:gs pos="0">
                <a:srgbClr val="324875"/>
              </a:gs>
              <a:gs pos="50000">
                <a:srgbClr val="6d9eff"/>
              </a:gs>
              <a:gs pos="100000">
                <a:srgbClr val="3248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10000"/>
                </a:solidFill>
                <a:latin typeface="Angsana New"/>
              </a:rPr>
              <a:t>ตัวต้านทานและตัวเก็บประจุต่อร่วมกัน</a:t>
            </a:r>
            <a:r>
              <a:rPr b="1" lang="en-US" sz="2000" spc="-1" strike="noStrike">
                <a:solidFill>
                  <a:srgbClr val="01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10000"/>
                </a:solidFill>
                <a:latin typeface="Angsana New"/>
              </a:rPr>
              <a:t>กำลังไฟฟ้าของวงจรอนุกรม </a:t>
            </a:r>
            <a:r>
              <a:rPr b="1" lang="en-US" sz="2000" spc="-1" strike="noStrike">
                <a:solidFill>
                  <a:srgbClr val="010000"/>
                </a:solidFill>
                <a:latin typeface="Angsana New"/>
              </a:rPr>
              <a:t>RC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 spd="slow" advTm="30000">
    <p:comb dir="horz"/>
    <p:sndAc>
      <p:stSnd>
        <p:snd r:embed="rId3" name="BB010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332000" y="0"/>
            <a:ext cx="7812000" cy="6858000"/>
          </a:xfrm>
          <a:prstGeom prst="rect">
            <a:avLst/>
          </a:prstGeom>
          <a:solidFill>
            <a:srgbClr val="6d9e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339640" y="5300280"/>
            <a:ext cx="6119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10000"/>
                </a:solidFill>
                <a:latin typeface="Angsana New"/>
                <a:cs typeface="LilyUPC"/>
              </a:rPr>
              <a:t>รูปวงจรต่อขนานของ  </a:t>
            </a:r>
            <a:r>
              <a:rPr b="1" i="1" lang="en-US" sz="3200" spc="-1" strike="noStrike">
                <a:solidFill>
                  <a:srgbClr val="010000"/>
                </a:solidFill>
                <a:latin typeface="Angsana New"/>
                <a:ea typeface="LilyUPC"/>
              </a:rPr>
              <a:t>RC</a:t>
            </a:r>
            <a:r>
              <a:rPr b="1" i="1" lang="th-TH" sz="3200" spc="-1" strike="noStrike">
                <a:solidFill>
                  <a:srgbClr val="010000"/>
                </a:solidFill>
                <a:latin typeface="Angsana New"/>
                <a:ea typeface="LilyUPC"/>
              </a:rPr>
              <a:t>	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6d9eff"/>
              </a:gs>
              <a:gs pos="100000">
                <a:srgbClr val="3248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23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6d9eff"/>
              </a:gs>
              <a:gs pos="100000">
                <a:srgbClr val="3248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8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402920" y="835920"/>
            <a:ext cx="5040360" cy="825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1d4e7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66ffff"/>
                </a:solidFill>
                <a:latin typeface="Angsana New"/>
                <a:cs typeface="LilyUPC"/>
              </a:rPr>
              <a:t>วงจรขนาน </a:t>
            </a:r>
            <a:r>
              <a:rPr b="1" i="1" lang="en-US" sz="4800" spc="-1" strike="noStrike">
                <a:solidFill>
                  <a:srgbClr val="66ffff"/>
                </a:solidFill>
                <a:latin typeface="Angsana New"/>
                <a:ea typeface="LilyUPC"/>
              </a:rPr>
              <a:t>RC</a:t>
            </a:r>
            <a:endParaRPr b="0" lang="en-US" sz="4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1923480" y="45086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วงจร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4720" y="4508640"/>
            <a:ext cx="120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สัญญาณ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16720" y="4508640"/>
            <a:ext cx="21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ค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เฟสเซอร์ไดอะแกร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32000" y="0"/>
            <a:ext cx="5526000" cy="703800"/>
          </a:xfrm>
          <a:prstGeom prst="rect">
            <a:avLst/>
          </a:prstGeom>
          <a:gradFill rotWithShape="0">
            <a:gsLst>
              <a:gs pos="0">
                <a:srgbClr val="324875"/>
              </a:gs>
              <a:gs pos="50000">
                <a:srgbClr val="6d9eff"/>
              </a:gs>
              <a:gs pos="100000">
                <a:srgbClr val="3248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10000"/>
                </a:solidFill>
                <a:latin typeface="Angsana New"/>
              </a:rPr>
              <a:t>ตัวต้านทานและตัวเก็บประจุต่อร่วมกัน</a:t>
            </a:r>
            <a:r>
              <a:rPr b="1" lang="en-US" sz="2000" spc="-1" strike="noStrike">
                <a:solidFill>
                  <a:srgbClr val="01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10000"/>
                </a:solidFill>
                <a:latin typeface="Angsana New"/>
              </a:rPr>
              <a:t>วงจรขนาน </a:t>
            </a:r>
            <a:r>
              <a:rPr b="1" lang="en-US" sz="2000" spc="-1" strike="noStrike">
                <a:solidFill>
                  <a:srgbClr val="010000"/>
                </a:solidFill>
                <a:latin typeface="Angsana New"/>
              </a:rPr>
              <a:t>RC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879640" cy="230508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3995640" y="1916280"/>
            <a:ext cx="4969080" cy="25128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sp>
        <p:nvSpPr>
          <p:cNvPr id="243" name=""/>
          <p:cNvSpPr/>
          <p:nvPr/>
        </p:nvSpPr>
        <p:spPr>
          <a:xfrm>
            <a:off x="4966200" y="234936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93560" y="2133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90640" y="191628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5920" y="2349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97280" y="254484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S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16120" y="4149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25160" y="414972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35120" y="396252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I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36520" y="3983040"/>
            <a:ext cx="3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E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85960" y="234936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I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 spd="slow" advTm="30000">
    <p:comb dir="horz"/>
    <p:sndAc>
      <p:stSnd>
        <p:snd r:embed="rId5" name="BB010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332000" y="0"/>
            <a:ext cx="7812000" cy="6858000"/>
          </a:xfrm>
          <a:prstGeom prst="rect">
            <a:avLst/>
          </a:prstGeom>
          <a:solidFill>
            <a:srgbClr val="6d9e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6d9eff"/>
              </a:gs>
              <a:gs pos="100000">
                <a:srgbClr val="3248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24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6d9eff"/>
              </a:gs>
              <a:gs pos="100000">
                <a:srgbClr val="3248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9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924360" y="981000"/>
                <a:ext cx="29908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924360" y="2205000"/>
                <a:ext cx="201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924360" y="2997360"/>
                <a:ext cx="2735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924360" y="4221000"/>
                <a:ext cx="27352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1332000" y="0"/>
            <a:ext cx="5526000" cy="703800"/>
          </a:xfrm>
          <a:prstGeom prst="rect">
            <a:avLst/>
          </a:prstGeom>
          <a:gradFill rotWithShape="0">
            <a:gsLst>
              <a:gs pos="0">
                <a:srgbClr val="324875"/>
              </a:gs>
              <a:gs pos="50000">
                <a:srgbClr val="6d9eff"/>
              </a:gs>
              <a:gs pos="100000">
                <a:srgbClr val="3248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10000"/>
                </a:solidFill>
                <a:latin typeface="Angsana New"/>
              </a:rPr>
              <a:t>ตัวต้านทานและตัวเก็บประจุต่อร่วมกัน</a:t>
            </a:r>
            <a:r>
              <a:rPr b="1" lang="en-US" sz="2000" spc="-1" strike="noStrike">
                <a:solidFill>
                  <a:srgbClr val="01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10000"/>
                </a:solidFill>
                <a:latin typeface="Angsana New"/>
              </a:rPr>
              <a:t>วงจรขนาน </a:t>
            </a:r>
            <a:r>
              <a:rPr b="1" lang="en-US" sz="2000" spc="-1" strike="noStrike">
                <a:solidFill>
                  <a:srgbClr val="010000"/>
                </a:solidFill>
                <a:latin typeface="Angsana New"/>
              </a:rPr>
              <a:t>RC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 spd="slow" advTm="30000">
    <p:comb dir="horz"/>
    <p:sndAc>
      <p:stSnd>
        <p:snd r:embed="rId3" name="BB010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4:49:42Z</dcterms:created>
  <dc:creator>ADMIN</dc:creator>
  <dc:description/>
  <dc:language>en-US</dc:language>
  <cp:lastModifiedBy>พี่อุอุ๊</cp:lastModifiedBy>
  <dcterms:modified xsi:type="dcterms:W3CDTF">2005-11-14T03:09:00Z</dcterms:modified>
  <cp:revision>52</cp:revision>
  <dc:subject/>
  <dc:title>งานนำเสนอ PowerPoint</dc:title>
</cp:coreProperties>
</file>